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E162-85F8-44AB-9F99-BD2E637A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FAB2-CD10-461B-A7E9-B3061E3E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53C5-3A40-4EEE-B31E-BDD188A23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FF33-8633-453C-9E0F-C92C0D8E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5FCF-2350-4EA0-BA0D-4259F83D5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1AAF-6AA2-4F3B-A323-7F46DA98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7E4-5834-448F-A90C-6936CE78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DED2-B2DE-4B31-8609-F99B32C6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BF1E-645C-468B-9304-73551A55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7E8F-C2C1-466C-A073-9474F48D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110-947E-42FF-9700-538F6F67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FD1-5710-48B1-B900-BB9C4E7D1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220D-7FC5-4BC8-828E-F196B1357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57240"/>
            <a:ext cx="9067680" cy="68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/Wh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yout made it easier to follow certain lin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liked the picture slide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nks were simple and gave me exactly the information that I wa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3434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/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’s too much information on the page and it doesn’t seem organized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ought the links were hard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had a hard time understanding what I was looking at or reading some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0600" y="182880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76320" y="-57240"/>
            <a:ext cx="9220320" cy="691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/W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ebsite is easy to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ks are cl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mages make it easy to understand what the page i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inks also have some great supplement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2133720"/>
            <a:ext cx="3886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1T16:07:26Z</dcterms:created>
  <dc:creator>DCSUSER</dc:creator>
  <dc:description/>
  <dc:language>en-US</dc:language>
  <cp:lastModifiedBy>DCSUSER</cp:lastModifiedBy>
  <dcterms:modified xsi:type="dcterms:W3CDTF">2011-03-11T16:07:27Z</dcterms:modified>
  <cp:revision>1</cp:revision>
  <dc:subject/>
  <dc:title>Slide 1</dc:title>
</cp:coreProperties>
</file>